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DDD5-2FD6-41FC-9CB5-7E12D3AD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7363-AD02-4186-AC97-1CC54EF3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3A55-B7B5-4D04-AFA2-9FA20F34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3D93-4212-4A18-B182-9F1333B8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EF01-E2AC-4CEC-B6A3-22A4B028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9046-35C7-46B3-9CA3-8C020C31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260F-ACAE-4704-870D-CFC0455D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43F9-D9EF-4791-A439-26A2E1A1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203F-FDA4-49A8-BD8D-1B5F7714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D179-2E31-4A78-BA79-3126F497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C5BA-E657-4394-98E9-8023209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6285-9587-46BC-84C0-8ADED296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B0CB-0E3E-44A5-A926-70947C8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EBA1-AC2A-41F5-9B0C-22DF673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2BA1-D529-40C9-91C2-75B02FA6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7F1E-9ED4-4A27-B8D3-709BF438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F30D-19CF-4E10-B5F6-A9343EBB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9A13-19EE-4E91-9F93-A85C66AE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2D38-5D09-4D6C-94FB-F7761969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7A12-B79F-49BE-AD7C-F31304C9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8A2A-2CA8-4705-ABDC-E00289BD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04F6-9BAD-4357-93C1-85F6B2BA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0A6B-6D2F-430E-BD65-5176848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63DD-317D-445D-A62B-99E0535E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3BD1-4BE3-46B3-AB7C-2C383CCCCC2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B368-532A-48E3-B3DC-5A6CAD9FF19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Пр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8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Даниил, пленен, е коленичи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молба той търси Бога с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свойта стая за Сион си спомня, заточен далеч от та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504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оите прозорци към Ерусали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отваряш ли, кога си тук запрян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ришествието на Царя в слава чакаш ли от ден на ден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7528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Ей, не се плаши от рева лъвов, нито от пещни пламъц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вой защитник е Бог Даниилов, ангел ще ти се я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4504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оите прозорци към Ерусали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отваряш ли, кога си тук запрян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ришествието на Царя в слава чакаш ли от ден на ден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28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аший Бог е жив, дерзайте, чада, иде спасението 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ка се обърнем към Сио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м ще Бог да се яв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504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оите прозорци към Ерусали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отваряш ли, кога си тук запрян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ришествието на Царя в слава чакаш ли от ден на ден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45:55Z</dcterms:modified>
  <cp:revision>95</cp:revision>
  <dc:subject/>
  <dc:title>Slide 1</dc:title>
</cp:coreProperties>
</file>